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ACF7-7011-49EE-9C28-6AA8D22F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893D-A1AD-480C-8F75-8769A5BC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557C-72C7-442A-9073-A74402C6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9229-E36D-4C63-BCB3-034690CC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F31F-9173-491F-955C-C70D3451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1274-CEC2-458B-B6EB-3D436523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245B-A7AC-4839-ACC7-98332E56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0D4F-0078-46BE-8D55-26428B39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18E1-F839-4D06-AAED-09D190BC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416A-4900-4A31-BE3D-6C662AB1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E3B8-C57E-4E4A-8764-E010BBBF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4284-583D-47DC-98C9-FDFA27F3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104F-84D5-4D6B-9202-87E782441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wright.html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09680" y="1600200"/>
            <a:ext cx="518184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Airpla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666880"/>
            <a:ext cx="17524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am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ecember 7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#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0"/>
            <a:ext cx="3200400" cy="286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one and Dreaming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ember 8, 2011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610480" y="1752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373880" y="0"/>
            <a:ext cx="1770120" cy="1341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373880" y="5516640"/>
            <a:ext cx="1770120" cy="1341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770120" cy="1341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0" y="5516640"/>
            <a:ext cx="1770120" cy="1341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9880" y="58672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 Orville and Wilbur W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4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899172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7284960"/>
            <a:ext cx="76320" cy="1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Wright Bros."/>
          <p:cNvPicPr/>
          <p:nvPr/>
        </p:nvPicPr>
        <p:blipFill>
          <a:blip r:embed="rId1"/>
          <a:stretch/>
        </p:blipFill>
        <p:spPr>
          <a:xfrm>
            <a:off x="0" y="1143000"/>
            <a:ext cx="8381880" cy="2095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3276720"/>
            <a:ext cx="4038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12/1/11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Airplan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wrigh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943600" y="327672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400800" y="5638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Air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ne stayed in air for twelve sec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named the Wright fl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very small crowd watching the f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owd was skeptical about the f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ne was mostly black and wh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ntor: Orville and Wilbur Wr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ville and Wilbur learned about flight by watching buzz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ville lived from1871-194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bur lived from 1867-19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read many books about the mechanics of f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December 17, 2011, Orville and Wilbur announced that they will attempt to fly the first air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5:28:38Z</dcterms:created>
  <dc:creator>install</dc:creator>
  <dc:description/>
  <dc:language>en-US</dc:language>
  <cp:lastModifiedBy>install</cp:lastModifiedBy>
  <dcterms:modified xsi:type="dcterms:W3CDTF">2011-12-16T15:30:01Z</dcterms:modified>
  <cp:revision>10</cp:revision>
  <dc:subject/>
  <dc:title>Slide 1</dc:title>
</cp:coreProperties>
</file>